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1B99-F910-4A15-85E3-EA6A4E36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3231-9786-4A12-87CC-681A337F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5B93-1648-437C-8F8A-DFD24267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365B-D41E-49CD-961E-E1DF3C00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CBBC-ACED-4FD2-94E7-5F16EEC4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68C7-90E0-4EC0-A542-F58C22F6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03AF-E89E-4E9D-8F04-8B8F9710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DCF0-E888-4D61-91C1-A503462E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BDBD-00F8-4561-B5C5-9524651C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0B38-4398-4A2E-A230-B6D7E00D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2DC5-F4AD-4E6E-B269-F3766B73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530D-E3ED-460B-87CA-47581673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6B50-6191-4290-8A53-920B67B2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E342-2A2B-4EA0-896F-2100A395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548D-FAC4-4CBB-8480-35B98505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58D0-735D-45AA-8234-CB4B957E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04E8-4F59-43DD-84A4-CC686E37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BFC2-D070-4108-A9D6-71E7A244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9DBE-CEDB-48B7-A0DA-836511C0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B4FC-2C2A-4CC2-B086-11B8280A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F353-A352-415D-9E48-17E568DA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6B5E-19E1-49CC-8A3C-CE1A3F63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6B59-887E-4E87-AB3D-9E2DDF07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A120-9A3E-410E-B3A4-2A949021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9C00-934C-4CB3-9EDE-923E6F5AC668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e7030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40AD-286C-4AA3-AD66-D92C5BD868B0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  <a:ea typeface="Arial"/>
              </a:rPr>
              <a:t>The Important Book</a:t>
            </a:r>
            <a:br>
              <a:rPr sz="4800"/>
            </a:br>
            <a:r>
              <a:rPr b="0" lang="en-US" sz="1800" spc="-1" strike="noStrike">
                <a:solidFill>
                  <a:srgbClr val="0d469b"/>
                </a:solidFill>
                <a:latin typeface="Book Antiqua"/>
                <a:ea typeface="Arial"/>
              </a:rPr>
              <a:t>by Margaret Wise 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33720" y="1243080"/>
            <a:ext cx="30765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3080" y="1243080"/>
            <a:ext cx="305784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38400" y="1243080"/>
            <a:ext cx="30672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38400" y="1247760"/>
            <a:ext cx="30672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38400" y="1243080"/>
            <a:ext cx="30672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Peel District School Board</cp:lastModifiedBy>
  <dcterms:modified xsi:type="dcterms:W3CDTF">2009-07-17T15:21:25Z</dcterms:modified>
  <cp:revision>94</cp:revision>
  <dc:subject/>
  <dc:title>Slide 1</dc:title>
</cp:coreProperties>
</file>